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8.png" ContentType="image/png"/>
  <Override PartName="/ppt/media/image14.jpeg" ContentType="image/jpeg"/>
  <Override PartName="/ppt/media/image7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13.jpeg" ContentType="image/jpeg"/>
  <Override PartName="/ppt/media/image23.gif" ContentType="image/gif"/>
  <Override PartName="/ppt/media/image1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2640" y="667800"/>
            <a:ext cx="456084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D07C0-12F1-4051-AAAE-239510E40E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290DA-0142-4300-8D25-56640AB26D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54021-218F-4F33-B7E6-43FD3620D8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E5C7A-FB72-4480-9755-6E647F875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BC258-CA6A-45C9-8500-E40FDBE530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2FF9E-8836-4BCE-B142-AB39F09EB0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F6860-D66D-425A-B8F7-E2209B2735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2514-AE90-4A8E-99AE-F9642A8616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63948-6A21-463C-B446-0928C12FC4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36166-88CF-4676-866D-9B489F9AD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41961-8E5C-4766-830D-1844BF9385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1A18-E39E-41C9-9255-274AF526B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1D0D4-7DED-49CA-80F8-859CC77C21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CF955-C141-4528-970C-916B2827C8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341C-5236-4973-BC25-143164F9E8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D3DC3-86F3-48B3-A953-96C9B8A18A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DF773-D2C3-427B-B21D-E577B7882F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D6D01-17A2-485E-9D82-5A1BB4DE0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3ACD-F123-4C48-9A5B-6B77D78EE2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0CB0-F452-48F5-9867-63B368747B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AF54F-F84B-41D6-91EA-DF54F44AB4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26135-7EB6-4212-A053-5B87E2F359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8946F-CE70-4AF2-965A-A025481C7B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4B8-F962-4856-B87A-5D2A02DA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DF8-0FF9-4729-94BB-BB9F0148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0BD-F4C1-4E65-923F-5F87A543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76E-A155-408C-9371-22AD4F68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2A49-05ED-4EDF-BC07-D4C2DBE1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A80-D524-47A3-A110-C497AF7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EB48-A771-4D2E-A3B2-F19598B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6C0-79D8-4819-9C85-8D7BCC28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FF1D-C440-410D-BFFB-7CE696A8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FBC-AC51-4E68-9C78-F73BEDDA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2C63-3585-41CC-B424-3B638A4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F7B-E954-4C54-9860-8E08A93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172A-504A-4789-BBFE-C85FC3D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F9F-070D-419A-9581-3A5AD59C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6E8-E52C-435A-B4D5-E4658B4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5AF1-B9AD-478E-B960-FD30D16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D99-3A2E-4B6E-BB7D-8E3C777C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9EB-5C02-41B5-8F7B-64DB2997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8E4-D9B2-4547-B897-9F4266A9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860-AA59-4F6C-8262-472814D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41C-3CFA-4E59-B07A-CD485C1D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0A5-98F7-4C7E-BA45-5C3E0C8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2F0-8F7C-4462-93D8-E12754C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B95-1C1E-4D66-B14D-14D78EF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F6C6EC-C9C8-4B4A-919A-3909623972B8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418604-632C-4EAE-9019-1F4C0EA49803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4" descr=""/>
          <p:cNvPicPr/>
          <p:nvPr/>
        </p:nvPicPr>
        <p:blipFill>
          <a:blip r:embed="rId1"/>
          <a:stretch/>
        </p:blipFill>
        <p:spPr>
          <a:xfrm>
            <a:off x="60480" y="139680"/>
            <a:ext cx="9802800" cy="431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E01644_"/>
          <p:cNvPicPr/>
          <p:nvPr/>
        </p:nvPicPr>
        <p:blipFill>
          <a:blip r:embed="rId2"/>
          <a:stretch/>
        </p:blipFill>
        <p:spPr>
          <a:xfrm>
            <a:off x="4932360" y="3429000"/>
            <a:ext cx="389088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489960" y="344484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Внеклассное мероприятие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для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479736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полнила: Фазлиева Гульнара Музиповна,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БОУ «СОШ № 3 г Мамадыш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f3fa"/>
            </a:gs>
            <a:gs pos="50000">
              <a:srgbClr val="f8b9b2"/>
            </a:gs>
            <a:gs pos="100000">
              <a:srgbClr val="9ef3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57360" y="428760"/>
            <a:ext cx="6351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476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Гульнара Музиповна\Desktop\коррупция рисунки\коррупция7.jpg"/>
          <p:cNvPicPr/>
          <p:nvPr/>
        </p:nvPicPr>
        <p:blipFill>
          <a:blip r:embed="rId2"/>
          <a:stretch/>
        </p:blipFill>
        <p:spPr>
          <a:xfrm>
            <a:off x="971640" y="587520"/>
            <a:ext cx="7488000" cy="586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81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0f01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165640" y="95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1332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Гульнара Музиповна\Desktop\коррупция рисунки\кор0.gif"/>
          <p:cNvPicPr/>
          <p:nvPr/>
        </p:nvPicPr>
        <p:blipFill>
          <a:blip r:embed="rId2"/>
          <a:stretch/>
        </p:blipFill>
        <p:spPr>
          <a:xfrm>
            <a:off x="684360" y="620640"/>
            <a:ext cx="799128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d6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129440" cy="29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Гульнара Музиповна\Desktop\коррупция рисунки\кор9.jpg"/>
          <p:cNvPicPr/>
          <p:nvPr/>
        </p:nvPicPr>
        <p:blipFill>
          <a:blip r:embed="rId2"/>
          <a:stretch/>
        </p:blipFill>
        <p:spPr>
          <a:xfrm>
            <a:off x="900000" y="1484280"/>
            <a:ext cx="73440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1280" y="2048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ррупция - это противозаконно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d5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25800" cy="12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908000" y="1844640"/>
            <a:ext cx="603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б не было несчаст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омните, друз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коррупция и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о плохо, «стоп», нельзя 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C:\Users\Гульнара Музиповна\Desktop\коррупция рисунки\кор 9.jpg"/>
          <p:cNvPicPr/>
          <p:nvPr/>
        </p:nvPicPr>
        <p:blipFill>
          <a:blip r:embed="rId2"/>
          <a:stretch/>
        </p:blipFill>
        <p:spPr>
          <a:xfrm>
            <a:off x="2124000" y="1619280"/>
            <a:ext cx="55436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85800" y="150840"/>
            <a:ext cx="68706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Доктор Айболи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18590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1866960" cy="15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Гульнара Музиповна\Desktop\коррупция рисунки\доктор айболит.jpg"/>
          <p:cNvPicPr/>
          <p:nvPr/>
        </p:nvPicPr>
        <p:blipFill>
          <a:blip r:embed="rId2"/>
          <a:stretch/>
        </p:blipFill>
        <p:spPr>
          <a:xfrm>
            <a:off x="1692360" y="982800"/>
            <a:ext cx="4784760" cy="5287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936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6765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43000" y="155520"/>
            <a:ext cx="66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Коррупция -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6" descr="C:\Users\Гульнара Музиповна\Desktop\коррупция рисунки\коррупция6.jpg"/>
          <p:cNvPicPr/>
          <p:nvPr/>
        </p:nvPicPr>
        <p:blipFill>
          <a:blip r:embed="rId2"/>
          <a:stretch/>
        </p:blipFill>
        <p:spPr>
          <a:xfrm>
            <a:off x="3057480" y="1341360"/>
            <a:ext cx="3286080" cy="493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6877080" y="3716280"/>
            <a:ext cx="1322280" cy="95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6206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Гульнара Музиповна\Desktop\коррупция рисунки\теремок.jpg"/>
          <p:cNvPicPr/>
          <p:nvPr/>
        </p:nvPicPr>
        <p:blipFill>
          <a:blip r:embed="rId6"/>
          <a:stretch/>
        </p:blipFill>
        <p:spPr>
          <a:xfrm>
            <a:off x="299880" y="620640"/>
            <a:ext cx="84488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914400" y="189000"/>
            <a:ext cx="57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:\Users\Гульнара Музиповна\Desktop\коррупция рисунки\теремок1.jpg"/>
          <p:cNvPicPr/>
          <p:nvPr/>
        </p:nvPicPr>
        <p:blipFill>
          <a:blip r:embed="rId3"/>
          <a:stretch/>
        </p:blipFill>
        <p:spPr>
          <a:xfrm>
            <a:off x="476280" y="252360"/>
            <a:ext cx="53341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Users\Гульнара Музиповна\Desktop\коррупция рисунки\лягушка.png"/>
          <p:cNvPicPr/>
          <p:nvPr/>
        </p:nvPicPr>
        <p:blipFill>
          <a:blip r:embed="rId4"/>
          <a:stretch/>
        </p:blipFill>
        <p:spPr>
          <a:xfrm>
            <a:off x="5783400" y="3933720"/>
            <a:ext cx="19699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C:\Users\Гульнара Музиповна\Desktop\коррупция рисунки\теремок2.png"/>
          <p:cNvPicPr/>
          <p:nvPr/>
        </p:nvPicPr>
        <p:blipFill>
          <a:blip r:embed="rId2"/>
          <a:stretch/>
        </p:blipFill>
        <p:spPr>
          <a:xfrm>
            <a:off x="1943280" y="254160"/>
            <a:ext cx="5257800" cy="6349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04640" y="2541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дведь - рэкитё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30520" y="503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1476360" y="6021360"/>
            <a:ext cx="712944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Users\Гульнара Музиповна\Desktop\коррупция рисунки\емеля 3.jpg"/>
          <p:cNvPicPr/>
          <p:nvPr/>
        </p:nvPicPr>
        <p:blipFill>
          <a:blip r:embed="rId3"/>
          <a:stretch/>
        </p:blipFill>
        <p:spPr>
          <a:xfrm>
            <a:off x="1573200" y="824040"/>
            <a:ext cx="6045120" cy="6045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692360" y="1760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о щучьему веленью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a3"/>
            </a:gs>
            <a:gs pos="100000">
              <a:srgbClr val="d7f8f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6"/>
          <p:cNvSpPr/>
          <p:nvPr/>
        </p:nvSpPr>
        <p:spPr>
          <a:xfrm>
            <a:off x="1619280" y="299736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619280" y="335772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1619280" y="3716280"/>
            <a:ext cx="1152360" cy="180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35640" y="2276640"/>
            <a:ext cx="144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5424480" y="3284640"/>
            <a:ext cx="2376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8" descr="C:\Users\Гульнара Музиповна\Desktop\коррупция рисунки\емеля1.jpg"/>
          <p:cNvPicPr/>
          <p:nvPr/>
        </p:nvPicPr>
        <p:blipFill>
          <a:blip r:embed="rId1"/>
          <a:stretch/>
        </p:blipFill>
        <p:spPr>
          <a:xfrm>
            <a:off x="1211400" y="72864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0:17:09Z</dcterms:created>
  <dc:creator>ermolina.ib</dc:creator>
  <dc:description/>
  <dc:language>en-US</dc:language>
  <cp:lastModifiedBy>Гульнара Музиповна</cp:lastModifiedBy>
  <dcterms:modified xsi:type="dcterms:W3CDTF">2013-11-24T08:01:01Z</dcterms:modified>
  <cp:revision>82</cp:revision>
  <dc:subject/>
  <dc:title>Презентация PowerPoint</dc:title>
</cp:coreProperties>
</file>